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0679-3361-4268-B43A-80F2DBB1B0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6EAB-1FF4-4435-9C45-3D23B8E905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box on page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206E-36F4-41B1-9BC9-257B8D0328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48A7-E982-4B60-81D3-229FC10D99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9872-3F00-4F51-A394-B5BAEEEC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49FE-560F-4A50-BEA2-8F3F1E8D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CE42-2A9F-44DC-8B91-7455A85B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9C63-F76C-4EC2-8CC4-AD938B32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3359-80F5-463C-99B0-5176645B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2F4A-8849-421C-8E83-1B01F795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BD81-B61F-4088-9A7C-8177905A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A125-6668-4275-B028-A38EC173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2A4C-7FCC-4E4E-8141-0F8885E4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381E-A0CF-4D3A-A907-F73B3D37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6FE6-A0FA-49BE-9807-642E430D9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2E76-4EFF-4DD5-A52B-29A26509C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47"/>
          <p:cNvSpPr/>
          <p:nvPr/>
        </p:nvSpPr>
        <p:spPr>
          <a:xfrm>
            <a:off x="1600200" y="6324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Heavy Hands: An Introduction to the Crime of Intimate and Family Violence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Fifth Edi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Denise Gossel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39612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1016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Verdana"/>
              </a:rPr>
              <a:t>Heavy H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5123160" y="297180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7"/>
          <p:cNvSpPr/>
          <p:nvPr/>
        </p:nvSpPr>
        <p:spPr>
          <a:xfrm>
            <a:off x="1600200" y="6477120"/>
            <a:ext cx="3429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Heavy Hands: An Introduction to the Crime of Intimate and Family Violence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Fifth Edi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Denise Gossel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2819520" y="1295280"/>
            <a:ext cx="342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5029200" y="3809880"/>
            <a:ext cx="3809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952880" y="3809880"/>
            <a:ext cx="39625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Working Ms Roboto\Gary Bauer\2014 Supplements\Gosselin\PPTs - Laura Becker\Gosselin 5e cover.jpg"/>
          <p:cNvPicPr/>
          <p:nvPr/>
        </p:nvPicPr>
        <p:blipFill>
          <a:blip r:embed="rId4"/>
          <a:stretch/>
        </p:blipFill>
        <p:spPr>
          <a:xfrm>
            <a:off x="762120" y="1905120"/>
            <a:ext cx="3370320" cy="4216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7"/>
          <p:cNvSpPr/>
          <p:nvPr/>
        </p:nvSpPr>
        <p:spPr>
          <a:xfrm>
            <a:off x="1600200" y="6324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Heavy Hands: An Introduction to the Crime of Intimate and Family Violence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Fifth Edi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Denise Gossel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F9B2-5748-47BB-8806-8F688DF09DA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4952880" y="3809880"/>
            <a:ext cx="39625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6736320" y="255888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  <a:ea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4419720" y="380988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imate Partner Vio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iolence Against Wome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olence against women is underreport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ly 49% of intimate partner violence against women is reported to the poli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atalano, S., Smith, E., Snyder, H., &amp; Rand, M. (2009).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Female victims of violenc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. (NCJ 228356). Washington, DC: Bureau of Justice Statistics. Retrieved from http://bjs.gov/content/pub/pdf/fvv.pdf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iolence Against Me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than one in four heterosexual men in the U.S. have experienced rape, physical violence, and/or stalking by an intimate partner in their lifetim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3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n are less likely to report the violence and seek services due to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tigma of being a male victim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ar of not being believ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alters, M. L., Chen, J., &amp; Breiding, M. J. (2013).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National Intimate Partner and Sexual Violence Survey: 2010 findings on victimization by sexual orientation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. Atlanta, GA: Centers for Disease Control and Prevention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ycle of Violence Theor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orist Lenore Walker is most often cited for application of the transmission of violence theory to family abus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e described three separate phases of an abuse cycle represented in a pattern that is repeated time and again in a battering relationship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ase I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ension buil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ase II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cute batte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ase III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honeymoon ph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alker, L. (1979).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The battered woman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. New York, NY: Springer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eminist Sociopolitical Theor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eminist model has been the dominant explanation for family violence for yea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erspective considers intimate partner violence as endemic to cultures influenced by a patriarchal social structur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eminist Sociopolitical Theor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riarch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s to a social system that recognizes the complete dominance of men over wo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stom and religion typically strengthened by law define the social standing of women as subservient to 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recognized as the most common and enduring social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core of the theory is the idea that intimate partner violence is used to maintain control over women, by force, when nee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dividual-Based Theori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ividual-based theor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cribe family violence to psychological problems, such as personality disorders, the offender’s childhood experiences, or biological disposi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ent studies have refuted a presumption of a personality disorder of the parent, because less than 10% of abusive parents were found to be emotionally maladjusted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dividual-Based Theori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ple factor theor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k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determine the causes of the abuse and neglect of childr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sychodynamic approach to therap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rgets the underlying psychological cause of the viol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dividual-Based Theori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gnitive–behavioral approa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 offender is taught new patterns of nonviolent thinking and behavi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the perpetrator has difficulty in establishing healthy relationships, attempts are made to facilitate secure attachments between offenders and loved 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dividual-Based Theori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cial–Psychological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oined together major elements of feminist theory with the psychological approa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rges three general approaches to crime caus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31400" indent="-217080">
              <a:spcBef>
                <a:spcPts val="49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cial lear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31400" indent="-217080">
              <a:spcBef>
                <a:spcPts val="49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equal power rel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31400" indent="-217080">
              <a:spcBef>
                <a:spcPts val="49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sonal choice the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s a broad application of social learning theory to explain that people who abuse have learned to do so through direct instruction, modeling, and reinforc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dividual-Based Theori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al–Psychological Model, co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equal power relations (real or perceived) contribute to the likelihood that abusive behaviors will be tolera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tion that family abuse is a personal choice: an abuser acts out with violence instead of using alternative methods of conflict resol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cial isolation creates an environment in which battering in same-sex couples can occu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hapter Objectiv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214c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the battered women’s movement with its accomplish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214c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the health and safety issues that affect survivors of intimate partner violen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214c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rates of intimate partner violence victimization among groups of American wom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214c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how intimate family violence victimization may impact males differently from female survivo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214c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dating violence victimiz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exual Offens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ysical effects of domestic partner rape may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juries to the vaginal and anal areas, lacerations, soreness, bruising, torn muscles, fatigue, and vomi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oken bones, black eyes, bloody noses, and knife wounds that occur during the sexual viol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scarriages, stillbirths, bladder infections, infertility, and the potential contraction of sexually transmitted dise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exual Offens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ital Ra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pe in a marriage is a prevalent form of sexual viole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ined as any unwanted intercourse or penetration (vaginal, anal, or oral) obtained by force, threat of force, or when the wife is unable to cons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considered a crime until the 1970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came a crime in all 50 states in 199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exual Offens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e Ra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ludes unwanted sexual intercourse, oral sex, anal sex, or other sexual contact through the use of force or threat of force by casual or intimate dating partn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cial term used to explain the fact that rape occurs within dating relationshi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egal term is simply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a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ced sexual intercourse is a common experience among young adult wo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ating Violence Victim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ing Violenc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olence that occurs in a dating or courtship relationshi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nger individuals are particularly at risk for this form of ab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ludes sexual assault, rape, physical assault and battery, and verbal and emotional ab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ing couples are even more likely to be violent than married cou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imate partner violenc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also called domestic violence, battering, or spouse ab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violence committed by a current or former spouse, opposite-sex cohabiting partner, same-sex cohabiting partner, date, or boyfriend or girlfrien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kes many form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often a repeated offen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iolence Behaviors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ysical violence behavior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include punching, shoving, slapping, biting, kicking, using a weapon against a partner, throwing items, pulling hair, and restraining the partn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xual violence behavior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include forcing a partner to perform sexual acts, telling the partner that she asked for the abuse (in sadomasochism), and rap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iolence Behaviors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otional and psychological ab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lude verbal abuses such as calling of names, criticizing, playing mind games, humiliating the partner, and reinforcing internalized homophob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conomic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s financial dependen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attered Women’s Movemen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battered women’s movemen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gan as a grassroots movement during the late 1960s (Barner &amp; Carney, 2011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s accomplished major victories since its ince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still strong toda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awareness of violence committed against lesbian and gay partners and ma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ealth and Safety Issu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are four stages leading to homici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l attraction, whereby the woman feels that the social isolation she is experiencing is actually mutual aff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a physical assault occurs, it is met with disbelie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the intensity or severity of violence increases, her survival depends on successfully leaving the offen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inal phase occurs if the woman cannot get aw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ealth and Safety Issu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rvivors of intimate partner violence (IPV) face numerous challe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meless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jury and trau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of life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iolence Against Wome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men are the most frequent victims of intimate partner violen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imate partner violence is the leading cause of injury and death to American women, causing more harm than vehicular accidents, rapes, and muggings combined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6T21:31:15Z</dcterms:created>
  <dc:creator>cjcoordccol</dc:creator>
  <dc:description/>
  <dc:language>en-US</dc:language>
  <cp:lastModifiedBy>Cecil, Kevin</cp:lastModifiedBy>
  <dcterms:modified xsi:type="dcterms:W3CDTF">2013-09-16T14:04:48Z</dcterms:modified>
  <cp:revision>88</cp:revision>
  <dc:subject/>
  <dc:title>Slide 1</dc:title>
</cp:coreProperties>
</file>